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6D9-679E-40B8-828E-65AFE185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41640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7F6-0A48-43B4-9E18-F7A19710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60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A56-2EAC-421C-93C6-97BEDBB6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40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372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40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372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EEA-718D-4C26-93FD-06C69E75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F843-0D8A-4A9D-8D8D-F7ED74CF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DCC3-9044-48AC-BCF9-90CA3741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11D7-90B5-41AE-96A3-AEC2991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C96D-9616-4E84-9806-B8E6E0A7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0F6F-A972-404E-B1A4-8A68982D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08516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1AC8-F002-4F93-85C1-312BAA44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C76E-B088-4787-8E77-BCEB093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276-9CAE-4E16-82E0-A78BEB2C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260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299B-44F6-475E-BE0E-E05F6466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7C00-5B05-4909-9EAA-66A6D92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41640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5BB3-4836-40E2-9FD1-E2DB9AC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260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1421-9D06-46BD-82EC-B6985EB2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40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372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40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372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25ED-5F9A-4B70-9415-8EF85A6D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A05-EE69-4212-BAE7-2D064325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850-2FAA-4426-8BD3-23ED8ADD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F79-0E1A-4C3B-AA49-23AE540C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08516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6E7-E43E-4647-B56D-ECE8DBF2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E12-85BE-4EE1-A84F-7659E0B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60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DEC-28A1-48E8-8A48-21D22EE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621-EC4A-4C0B-A377-43534C8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0168-14EC-4994-9AC3-13450D2B0B4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AC04-52B7-4E01-AC89-A7C91F53FD9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085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работать сервер доступа к библиотечным информационным ресурсам по протоколу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.50 и систему обслуживания по принципу «Одно окно»</a:t>
            </a: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5761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Times New Roman"/>
              </a:rPr>
              <a:t>СЕРВЕР ДОСТУПА К БИБЛИОТЕЧНЫМ ИНФОРМАЦИОННЫМ РЕСУРСАМ ПО ПРОТОКОЛУ </a:t>
            </a:r>
            <a:r>
              <a:rPr b="1" i="1" lang="en-US" sz="3000" spc="-1" strike="noStrike">
                <a:solidFill>
                  <a:srgbClr val="cc3300"/>
                </a:solidFill>
                <a:latin typeface="Times New Roman"/>
              </a:rPr>
              <a:t>Z39.50</a:t>
            </a:r>
            <a:r>
              <a:rPr b="1" i="1" lang="ru-RU" sz="3000" spc="-1" strike="noStrike">
                <a:solidFill>
                  <a:srgbClr val="cc3300"/>
                </a:solidFill>
                <a:latin typeface="Times New Roman"/>
              </a:rPr>
              <a:t> И СИСТЕМА ОБСЛУЖИВАНИЯ ПО ПРИНЦИПУ «ОДНО ОКНО»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2920" y="1052280"/>
            <a:ext cx="561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Государственный орган-заказч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льзователь) системы: Национальная академия наук Беларуси (НАН Беларуси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Организация разработчик и изготов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ы: Государственное научное учреждение «Объединенный институт проблем информатики Национальной академии наук Беларуси» (ОИПИ НАН Беларуси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Организация-пользователь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ы: ГУ</a:t>
            </a:r>
            <a:r>
              <a:rPr b="0" lang="be-BY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Центральная научная библиотека НАН Беларуси», НАН Беларуси и ее подразделения, а также физические и юридические лица – пользователи сети Интернет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Условное обозна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Т-39.50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Плановые сроки выполнения рабо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– 16.02.2009 г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кончание  – 20.12.2010 г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Э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тап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ы рабо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 2009 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технический проект, программное обеспечение и создать опытный образец сервера доступа к библиотечным информационным ресурсам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.50 и системы обслуживания по принципу «Одно окно»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Анализ предметной области и формирование требований к системе. Разработка технического задания на систему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функциональной архитектуры и информационного обеспечения системы, пояснительной записки технического проекта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аботка программного обеспечения и с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ание опытного образца  системы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 2010 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работать программное обеспечение, разработать эксплуатационную документацию и ввести в эксплуатацию сервер доступа к библиотечным информационным ресурсам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.50 и систему обслуживания по принципу «Одно окно»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549360"/>
            <a:ext cx="708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640" y="765000"/>
            <a:ext cx="540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 процессе выполнения задания разработаны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е задание на создание  системы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снительная  записка к техническому  проекту на разработку системы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е обеспечение сервера доступа к библиотечным информационным ресурсам по протоко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.50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е обеспечение системы обслуживания «Одно окно»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онная документация (Общее описание, Руководство оператора, Руководство пользователя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549360"/>
            <a:ext cx="708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5640" y="1052640"/>
            <a:ext cx="554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c3300"/>
                </a:solidFill>
                <a:latin typeface="Times New Roman"/>
              </a:rPr>
              <a:t>Актуальность разработки сервера протокола </a:t>
            </a:r>
            <a:r>
              <a:rPr b="1" i="1" lang="en-US" sz="1700" spc="-1" strike="noStrike">
                <a:solidFill>
                  <a:srgbClr val="cc3300"/>
                </a:solidFill>
                <a:latin typeface="Times New Roman"/>
              </a:rPr>
              <a:t>Z 39.50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дарт протоко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3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 определяет для компьютеров-клиентов единую процедуру запроса информационных ресурсов – серверов, поддерживающих библиотечные каталоги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«одного окна» в библиотечной системе следует рассматривать как механизм взаимодействия компьютеров, позволяющий унифицировать доступ к различным базам данных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ь, использующий одно приложение на компьютере-клиенте, может производить поиск информации в удаленных распределенных базах данных, имеющих самую разную структуру и форматы представления информации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Необходимость реализации данного протокола обусловливается рядом причин:</a:t>
            </a:r>
            <a:r>
              <a:rPr b="0" i="1" lang="ru-RU" sz="1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йствующие информационно-поисковые системы и электронные каталоги поддерживают различные формы представления выходной информации, методы хранения данных, способы доступа к базам данных;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базы данных систем имеют различную структуру хранения информации. З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аписи баз данных (документы) могут иметь раз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</a:rPr>
              <a:t>лич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ные наборы полей, при этом поля записей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</a:rPr>
              <a:t>,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</a:rPr>
              <a:t>как правило, 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по-разному называются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</a:rPr>
              <a:t>;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 разных системах используются разные поисковые языки, 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то есть правила составления запросов на поиск информации в базе данных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азличается способ представления выдаваемой информации (списки, каталожные карточки и др.);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каждая система имеет свой собственный пользовательский интерфейс.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6920" y="1052640"/>
            <a:ext cx="5472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Возможности сервера и протокола 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Z 39.5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Протокол</a:t>
            </a:r>
            <a:r>
              <a:rPr b="1" i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Z39.50 </a:t>
            </a: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поддерживает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базами дан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независим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онкретных сист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 помощью единого языка запрос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гламен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ру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ылаемых данных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08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абстрактн</a:t>
            </a:r>
            <a:r>
              <a:rPr b="1" i="1" lang="ru-RU" sz="1400" spc="-1" strike="noStrike">
                <a:solidFill>
                  <a:srgbClr val="080000"/>
                </a:solidFill>
                <a:latin typeface="Times New Roman"/>
              </a:rPr>
              <a:t>ую</a:t>
            </a:r>
            <a:r>
              <a:rPr b="1" i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модел</a:t>
            </a:r>
            <a:r>
              <a:rPr b="1" i="1" lang="ru-RU" sz="1400" spc="-1" strike="noStrike">
                <a:solidFill>
                  <a:srgbClr val="080000"/>
                </a:solidFill>
                <a:latin typeface="Times New Roman"/>
              </a:rPr>
              <a:t>ь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библиографических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данных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с целью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унификац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представления информаци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, а также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принцип стандартизованной выдачи данных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 с целью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унификац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обмена данными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с распределенными данны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позволяет совершенно прозрачно для пользователя работать с данными, расположенными на разных физических серверах, различных аппаратно-программных платформах и хранящихся в различных внутренних форматах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ую систему запрос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базам данных как через синтакси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языка запрос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и через систему стандартных наборов поисковых атрибут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азначение протокола </a:t>
            </a:r>
            <a:r>
              <a:rPr b="1" lang="en-US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Z</a:t>
            </a:r>
            <a:r>
              <a:rPr b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39.50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предоставить компьютеру, работающему в режиме «клиент», возможности поиска и извлечения информаци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единую процедуру запроса из другого компьютера, работающего как информационный сервер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поддерживающ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й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библиотечные каталоги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Протокол Z39.50 определен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стандартом ANSI Z39.50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 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ISO </a:t>
            </a:r>
            <a:r>
              <a:rPr b="0" lang="en-US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Z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3950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561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Цель создания и назначение систем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ю реализации задания явля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к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рвера  протокола Z39.50 и системы информационного обслуживания по принципу «одно окно», совместимых с системой автоматизации библиотечной деятельности в НАН Беларуси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систем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нформационного обслужива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дно окно» предназначена для поиска и извлечения библиографических записей из удаленных электронных каталогов библиотек с использованием международного протокола Z39.5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Сервер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Z39.50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позволяет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еспечить корпоративный обмен информацией на национальном и международном уровне, сократить финансовые затраты и расход трудовых и материальных ресурсов на создание и поддержку электронных каталогов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оставить пользователям  свободный и широкий доступ к информационным ресурсам сети библиотек НАН Беларуси, РНТБ, Сводного электронного каталога библиотек Беларуси на базе Национальной библиотек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561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Требования к структуре и функционированию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ер обеспечивает доступ по протоколу Z39.50 v 3 (ISO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50-2003) к библиографической базе данных системы автоматизации библиотечной деятельности в НАН Беларуси и поддерживать следующие функции: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ициализация (установление сеанса связи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ск информации (сервер обрабатывает запросы RPN (type-1 и type-101) с набором библиографических поисковых атрибуто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 произвольной комбинации);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извлечение данных в различных форматах (SUTRS, MARC21, UNIMARC, RUSMARC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мотр индекс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ртировка результатов поиска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держка переговоров при инициализации сеанса о языке и наборе символов в различных кодовых таблицах (DOS, WIN, ISO, MAC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16000" y="771480"/>
          <a:ext cx="5400720" cy="52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771480"/>
                    <a:ext cx="540072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6:57:28Z</dcterms:created>
  <dc:creator>jmm</dc:creator>
  <dc:description/>
  <dc:language>en-US</dc:language>
  <cp:lastModifiedBy>Григянец Р.Б.</cp:lastModifiedBy>
  <dcterms:modified xsi:type="dcterms:W3CDTF">2011-01-27T14:49:29Z</dcterms:modified>
  <cp:revision>31</cp:revision>
  <dc:subject/>
  <dc:title>ГСНТИ 2009-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